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678-7356-4CE8-A273-870627E4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529-BB82-43FF-802C-DA37500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E3A-4253-4C30-AA9B-463F192F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DF2-1F51-44DF-B8C9-30E2E93A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314-4B74-460D-BA55-473DF63E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628-2129-4EDF-8F9C-79451F10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769-8F8C-418E-A818-EA48CEB7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428-F477-4C64-86E1-9CD3C46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F39-DEEC-4E7F-A002-FB73ACA7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349-9F7B-4C51-BD97-064AFD4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143-1108-48BD-A51C-8BC1B56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D30-59C9-416D-B5F4-1930362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0F5-679C-42BB-BEB7-6A17A76271A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Sphere Of Influ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here of infl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settlement describes the area that is served by a settlement, for a particular fu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sphere of influence for different functions may cover vastly different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a supermarket may attract people from a 20-mile radius, whilst a leisure activity, such as going to the theatre may attract them from far further a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larger a settlement is the greater its sphere of influence is likely to be, as it has a wider range of services and functions to attract people to go the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shown in the diagram below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mall village may only have a village store selling the daily newspaper and food such as bread and mil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ill only travel the shortest distance they need to buy these produc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re described as being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venience goods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ther words, something that you can buy easily and for the same price all over the pl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mparison G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r town would have a wider sphere of influence because it would have shops and services that are more specialist, and so people would be willing to travel further to use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might be a furniture sho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ll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arison goods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other words products that you might shop around for before going ahead and buying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good or service describes the maximum distance that someone would be willing to travel to obtain that good or serv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spaper shop has a small range because people will not travel far to use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inema has a much wider range as people are prepared to travel much further to go to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reshold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shold pop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 good or service is the minimum number of people needed to allow that shop or service to be successfu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specialist a shop is the larger its threshold population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sagent will have a small threshold, where as a supermarket like Tesco's needs a much larger population before it can consider opening a st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3:49:54Z</dcterms:created>
  <dc:creator>Dell_02</dc:creator>
  <dc:description/>
  <dc:language>en-US</dc:language>
  <cp:lastModifiedBy>Dell_02</cp:lastModifiedBy>
  <dcterms:modified xsi:type="dcterms:W3CDTF">2011-01-26T00:00:08Z</dcterms:modified>
  <cp:revision>2</cp:revision>
  <dc:subject/>
  <dc:title>Sphere Of Influence</dc:title>
</cp:coreProperties>
</file>